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D28-7278-401E-A45C-B1C3E277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E21-5675-463B-AA8B-66693753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E904-72A2-4B65-B869-813EA399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4A6-4E24-4FB5-A3F1-67E8A760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06B-66FA-4EDB-8C7E-8F1165E6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40F-F87F-4B91-965C-46F93AC3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94E-3ABB-4A53-8E78-80F4F8E4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F9B-4BCE-49B1-85F6-E97CA4AA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94D-8B8A-4A48-A565-67580DDE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D518-26C2-42B1-AAE0-414B35C7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6FE-8C9F-49FA-882F-5BEA9F50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A2B-E877-4581-8F5A-036A0FDD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2757-AAE8-4359-8C0C-976833A41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.3:  Korematsu v. United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ndment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erson shall be held to answer for a capital, or otherwise infamous crime, unless on a presentment or indictment of a Grand Jury, except in cases arising in the land or naval forces, or in the Militia, when in actual service in time of War or public danger; …nor shall be compelled in any criminal case to be a witness against himself, nor be deprived of life, liberty, or property, without due process of law; nor shall private property be taken for public use without just compens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20:03:08Z</dcterms:created>
  <dc:creator>Ana</dc:creator>
  <dc:description/>
  <dc:language>en-US</dc:language>
  <cp:lastModifiedBy>School District U46</cp:lastModifiedBy>
  <dcterms:modified xsi:type="dcterms:W3CDTF">2012-02-14T20:56:13Z</dcterms:modified>
  <cp:revision>2</cp:revision>
  <dc:subject/>
  <dc:title>14.3:  Korematsu v. United States</dc:title>
</cp:coreProperties>
</file>